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wmf" ContentType="image/x-wmf"/>
  <Override PartName="/ppt/media/image24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8EA-5484-434E-AD39-C9695732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325-7C3B-4C53-9C5E-C793ED3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98E-FF25-4C60-A635-7AB043BC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04F2-CA42-4B00-81E3-1D58274B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F389-206B-4357-A725-FA696BDF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CCE-D1BA-4773-98EA-B075AC0F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C17-297A-40A9-8108-BB336542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F985-7CC8-46E4-8B7D-9255D8C3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4EC-A82D-4104-B8D0-AFD97261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1248-2295-400D-9AF3-21B60CAD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99E2-E76F-4A4C-9D2A-967AD394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97C-ABA8-42A1-87C5-B49F0260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F8E8-71BE-4BBD-80BE-01E617F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877E-B570-45B6-AD68-6783D9D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E013-01DA-42CC-B029-B917C12F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721D-3C1A-457E-A15F-313C122A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0B18-876F-48B4-9E4E-D9F5477C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853-8976-48AC-B397-856484DE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CED-601B-4243-A186-BD968F68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BA0-30FE-4966-B403-838CE33E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390-C80A-4C6D-818A-8E7B1394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D4A-A428-4220-ABDF-F5DE8AC1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F7A-6712-4F95-9A09-2195D2E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3B5-C7DF-4CEF-89AD-C84D90B5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C24D-5D17-4D82-94A1-E1C12761239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62D-6ABB-4218-9D76-9747B1CE6F5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bc.co.uk/science/humanbody/body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usport.gov.au/" TargetMode="External"/><Relationship Id="rId2" Type="http://schemas.openxmlformats.org/officeDocument/2006/relationships/hyperlink" Target="http://www.find30.com.au/" TargetMode="External"/><Relationship Id="rId3" Type="http://schemas.openxmlformats.org/officeDocument/2006/relationships/hyperlink" Target="http://www.walkingbus.com/" TargetMode="External"/><Relationship Id="rId4" Type="http://schemas.openxmlformats.org/officeDocument/2006/relationships/hyperlink" Target="http://www.newhealth.govt.nz/" TargetMode="External"/><Relationship Id="rId5" Type="http://schemas.openxmlformats.org/officeDocument/2006/relationships/hyperlink" Target="http://www.10000steps.org.au/rockhampton/" TargetMode="External"/><Relationship Id="rId6" Type="http://schemas.openxmlformats.org/officeDocument/2006/relationships/hyperlink" Target="http://www.travelsmart.gov.au/" TargetMode="External"/><Relationship Id="rId7" Type="http://schemas.openxmlformats.org/officeDocument/2006/relationships/hyperlink" Target="http://www.who.int/" TargetMode="External"/><Relationship Id="rId8" Type="http://schemas.openxmlformats.org/officeDocument/2006/relationships/hyperlink" Target="http://www.heartfoundation.com.au/" TargetMode="External"/><Relationship Id="rId9" Type="http://schemas.openxmlformats.org/officeDocument/2006/relationships/hyperlink" Target="http://www.vichealth.vic.gov.au/" TargetMode="External"/><Relationship Id="rId10" Type="http://schemas.openxmlformats.org/officeDocument/2006/relationships/hyperlink" Target="http://www.beactive.com.au/" TargetMode="External"/><Relationship Id="rId11" Type="http://schemas.openxmlformats.org/officeDocument/2006/relationships/hyperlink" Target="http://www.goforyourlife.vic.gov.au/" TargetMode="External"/><Relationship Id="rId12" Type="http://schemas.openxmlformats.org/officeDocument/2006/relationships/hyperlink" Target="http://www.cdc.gov/nccdphp/dnpa/physical/health_professionals/index.htm" TargetMode="External"/><Relationship Id="rId13" Type="http://schemas.openxmlformats.org/officeDocument/2006/relationships/hyperlink" Target="http://www.phac-aspc.gc.ca/hp-ps/index.html" TargetMode="External"/><Relationship Id="rId14" Type="http://schemas.openxmlformats.org/officeDocument/2006/relationships/hyperlink" Target="http://www.nphp.gov.au/workprog/sigpah/" TargetMode="External"/><Relationship Id="rId15" Type="http://schemas.openxmlformats.org/officeDocument/2006/relationships/hyperlink" Target="http://www.bbc.co.uk/science/humanbody" TargetMode="External"/><Relationship Id="rId16" Type="http://schemas.openxmlformats.org/officeDocument/2006/relationships/hyperlink" Target="http://www.innerbody.com/" TargetMode="External"/><Relationship Id="rId17" Type="http://schemas.openxmlformats.org/officeDocument/2006/relationships/hyperlink" Target="http://www.ehc.com/vbody.asp" TargetMode="External"/><Relationship Id="rId18" Type="http://schemas.openxmlformats.org/officeDocument/2006/relationships/hyperlink" Target="http://www.faccioni.com/Reviews/oxygendeficit.htm" TargetMode="External"/><Relationship Id="rId19" Type="http://schemas.openxmlformats.org/officeDocument/2006/relationships/hyperlink" Target="http://www.perfusion.com.au/CCP/Physiology/Oxygen%20and%20carbon%20dioxide%20transport.htm" TargetMode="External"/><Relationship Id="rId20" Type="http://schemas.openxmlformats.org/officeDocument/2006/relationships/hyperlink" Target="http://www.nismat.org/physcor/max_o2.html" TargetMode="External"/><Relationship Id="rId21" Type="http://schemas.openxmlformats.org/officeDocument/2006/relationships/hyperlink" Target="http://www.ausport.gov.au/" TargetMode="External"/><Relationship Id="rId22" Type="http://schemas.openxmlformats.org/officeDocument/2006/relationships/hyperlink" Target="http://www.brianmac.demon.co.uk/" TargetMode="External"/><Relationship Id="rId23" Type="http://schemas.openxmlformats.org/officeDocument/2006/relationships/slide" Target="slide1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905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ardiovascular system"/>
          <p:cNvPicPr/>
          <p:nvPr/>
        </p:nvPicPr>
        <p:blipFill>
          <a:blip r:embed="rId1"/>
          <a:stretch/>
        </p:blipFill>
        <p:spPr>
          <a:xfrm>
            <a:off x="4932360" y="1628640"/>
            <a:ext cx="3922560" cy="47628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87" name="Text Box 10"/>
          <p:cNvSpPr/>
          <p:nvPr/>
        </p:nvSpPr>
        <p:spPr>
          <a:xfrm>
            <a:off x="250920" y="1773360"/>
            <a:ext cx="3097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xt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elson Physical Education VCE Units 3&amp;4: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Malpeli, Horton, Davey and Telford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ve It Up 2: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Edition – Smyth, Brown, Judge, McCallum and Pritchard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bookCover_34"/>
          <p:cNvPicPr/>
          <p:nvPr/>
        </p:nvPicPr>
        <p:blipFill>
          <a:blip r:embed="rId2"/>
          <a:stretch/>
        </p:blipFill>
        <p:spPr>
          <a:xfrm>
            <a:off x="3276720" y="213372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Live it up 2"/>
          <p:cNvPicPr/>
          <p:nvPr/>
        </p:nvPicPr>
        <p:blipFill>
          <a:blip r:embed="rId3"/>
          <a:stretch/>
        </p:blipFill>
        <p:spPr>
          <a:xfrm>
            <a:off x="3276720" y="4221000"/>
            <a:ext cx="1433520" cy="1872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Limitations to maximal oxygen uptake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6800" y="214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Heart Rate and Oxygen consu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392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hen exercis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ur heart rate increases to meet the oxygen demands for the working mus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lationship between HR and oxygen consumption is lin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rained athletes are able to utilise their oxygen uptake more efficiently than non trained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3 p.1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Image29"/>
          <p:cNvPicPr/>
          <p:nvPr/>
        </p:nvPicPr>
        <p:blipFill>
          <a:blip r:embed="rId1"/>
          <a:stretch/>
        </p:blipFill>
        <p:spPr>
          <a:xfrm>
            <a:off x="4991040" y="2224080"/>
            <a:ext cx="3924360" cy="29433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336395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8232120" y="990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.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Heart Rate and Int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80880" y="1197000"/>
            <a:ext cx="8458200" cy="48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Oxygen Defici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Defic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125000"/>
            <a:ext cx="38098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Oxygen deficit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occurs when the demand for oxygen exceeds the supply of oxygen avail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body therefore needs to obtain ATP through anaerobic path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hort duration/high intensity – Lactic acid is produced but is removed once oxygen demands are m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erformance is hindered due to the presence of 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nce oxygen demands are met, the body reaches its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steady stat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erobic glycolysis assists in the removal of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154000" y="9907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Swimming"/>
          <p:cNvPicPr/>
          <p:nvPr/>
        </p:nvPicPr>
        <p:blipFill>
          <a:blip r:embed="rId2"/>
          <a:stretch/>
        </p:blipFill>
        <p:spPr>
          <a:xfrm>
            <a:off x="4788000" y="4581360"/>
            <a:ext cx="3809880" cy="18417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Acute Respons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cute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1760" y="1196640"/>
            <a:ext cx="3809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occur to supply extra oxygen and nutrients to support ATP pro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inclu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uction in creatine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cumulation of 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epinephrine (Regulates BP and 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consumption lev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1640" y="134136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uction in glycogen s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muscle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crease in cardiac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istribution of blood to working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sponses are dependent on intensity, duration, fitness levels and type of activit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j0336395"/>
          <p:cNvPicPr/>
          <p:nvPr/>
        </p:nvPicPr>
        <p:blipFill>
          <a:blip r:embed="rId1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8153280" y="990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cute Respo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42600" y="157176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cute responses to exercise. Increase i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ygen in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ransport of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xtraction of oxygen from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sumption of oxygen by working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ntinues until maximum uptake is met (VO</a:t>
            </a:r>
            <a:r>
              <a:rPr b="0" lang="en-A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bbc.co.uk/science/humanbody/body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RBC2"/>
          <p:cNvPicPr/>
          <p:nvPr/>
        </p:nvPicPr>
        <p:blipFill>
          <a:blip r:embed="rId2"/>
          <a:stretch/>
        </p:blipFill>
        <p:spPr>
          <a:xfrm>
            <a:off x="5148360" y="1197000"/>
            <a:ext cx="364788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187440"/>
            <a:ext cx="783756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808080"/>
                </a:solidFill>
                <a:latin typeface="Arial"/>
              </a:rPr>
              <a:t>Oxygen Deb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380988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fter exercise our demand for ATP decreases but we still need to ‘repay’ the oxygen needed during exerci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is is why we puff after intens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higher the intensity and duration of activities, the longer the oxygen deb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Image27"/>
          <p:cNvPicPr/>
          <p:nvPr/>
        </p:nvPicPr>
        <p:blipFill>
          <a:blip r:embed="rId1"/>
          <a:stretch/>
        </p:blipFill>
        <p:spPr>
          <a:xfrm>
            <a:off x="4788000" y="1268280"/>
            <a:ext cx="3809880" cy="446580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Respira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espiratory2"/>
          <p:cNvPicPr/>
          <p:nvPr/>
        </p:nvPicPr>
        <p:blipFill>
          <a:blip r:embed="rId1"/>
          <a:stretch/>
        </p:blipFill>
        <p:spPr>
          <a:xfrm>
            <a:off x="3124080" y="1600200"/>
            <a:ext cx="289584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lveoli"/>
          <p:cNvPicPr/>
          <p:nvPr/>
        </p:nvPicPr>
        <p:blipFill>
          <a:blip r:embed="rId2"/>
          <a:stretch/>
        </p:blipFill>
        <p:spPr>
          <a:xfrm>
            <a:off x="6172200" y="1523880"/>
            <a:ext cx="2781360" cy="449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2749320" cy="4443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EP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nother term used for oxygen recovery is EPOC – excess post-exercise oxygen consum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lactacid Debt – Oxygen used to restore ATP and PC s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actacid Debt -  Oxygen used to remove lactic acid from cells/b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dditional oxygen is used to recover the energy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ata Analysis p.124-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9 p.1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epoc"/>
          <p:cNvPicPr/>
          <p:nvPr/>
        </p:nvPicPr>
        <p:blipFill>
          <a:blip r:embed="rId1"/>
          <a:stretch/>
        </p:blipFill>
        <p:spPr>
          <a:xfrm>
            <a:off x="4500720" y="1628640"/>
            <a:ext cx="4267080" cy="416412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j0336395"/>
          <p:cNvPicPr/>
          <p:nvPr/>
        </p:nvPicPr>
        <p:blipFill>
          <a:blip r:embed="rId2"/>
          <a:stretch/>
        </p:blipFill>
        <p:spPr>
          <a:xfrm>
            <a:off x="8229600" y="15228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8153280" y="990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Web Links – 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0" y="1562040"/>
            <a:ext cx="9144000" cy="4533480"/>
            <a:chOff x="0" y="1562040"/>
            <a:chExt cx="9144000" cy="4533480"/>
          </a:xfrm>
        </p:grpSpPr>
        <p:sp>
          <p:nvSpPr>
            <p:cNvPr id="176" name="Rectangle 5"/>
            <p:cNvSpPr/>
            <p:nvPr/>
          </p:nvSpPr>
          <p:spPr>
            <a:xfrm>
              <a:off x="0" y="1562040"/>
              <a:ext cx="9144000" cy="4533480"/>
            </a:xfrm>
            <a:prstGeom prst="rect">
              <a:avLst/>
            </a:prstGeom>
            <a:solidFill>
              <a:srgbClr val="b7b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0" y="1562040"/>
              <a:ext cx="9144000" cy="4533120"/>
              <a:chOff x="0" y="1562040"/>
              <a:chExt cx="9144000" cy="453312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0" y="1562040"/>
                <a:ext cx="9144000" cy="3780000"/>
                <a:chOff x="0" y="1562040"/>
                <a:chExt cx="9144000" cy="3780000"/>
              </a:xfrm>
            </p:grpSpPr>
            <p:sp>
              <p:nvSpPr>
                <p:cNvPr id="179" name="Rectangle 8"/>
                <p:cNvSpPr/>
                <p:nvPr/>
              </p:nvSpPr>
              <p:spPr>
                <a:xfrm>
                  <a:off x="0" y="1562040"/>
                  <a:ext cx="360" cy="36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"/>
                <p:cNvSpPr/>
                <p:nvPr/>
              </p:nvSpPr>
              <p:spPr>
                <a:xfrm>
                  <a:off x="0" y="1562040"/>
                  <a:ext cx="9144000" cy="3780000"/>
                </a:xfrm>
                <a:prstGeom prst="rect">
                  <a:avLst/>
                </a:prstGeom>
                <a:solidFill>
                  <a:srgbClr val="b7be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ustralian Sports Commiss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"/>
                    </a:rPr>
                    <a:t>http://www.auspo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Find 30 promotion (Government of WA Department of Healt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2"/>
                    </a:rPr>
                    <a:t>http://www.find30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alking School Bus promotion (UK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3"/>
                    </a:rPr>
                    <a:t>http://www.walkingbus.co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Ministry of Health (New Zealand) toolkits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4"/>
                    </a:rPr>
                    <a:t>http://www.newhealth.govt.nz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he 10,000 Steps Rockhampton project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5"/>
                    </a:rPr>
                    <a:t>http://www.10000steps.org.au/rockhampton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Travelsmart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6"/>
                    </a:rPr>
                    <a:t>http://www.travelsmart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World Health Organisation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7"/>
                    </a:rPr>
                    <a:t>http://www.who.int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rt Foundation Australia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8"/>
                    </a:rPr>
                    <a:t>http://www.heartfoundation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VicHealth (The Victorian Health Promotion Foundation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9"/>
                    </a:rPr>
                    <a:t>http://www.vichealth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0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Go For Your Life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1"/>
                    </a:rPr>
                    <a:t>http://www.goforyourlife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hysical Activity Resources for Health Professionals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Introduction (Centre for disease control and prevention 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–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US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2"/>
                    </a:rPr>
                    <a:t>http://www.cdc.gov/nccdphp/dnpa/physical/health_professionals/index.htm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 Promotion (Public Health Agency of Canada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3"/>
                    </a:rPr>
                    <a:t>http://www.phac-aspc.gc.ca/hp-ps/index.html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trategic Inter-Governmental Forum on Physical Activity and Health (SIGPAH): </a:t>
                  </a:r>
                  <a:r>
                    <a:rPr b="0" lang="en-AU" sz="900" spc="-1" strike="noStrike" u="sng">
                      <a:solidFill>
                        <a:srgbClr val="969696"/>
                      </a:solidFill>
                      <a:uFillTx/>
                      <a:latin typeface="Verdana"/>
                      <a:ea typeface="Times New Roman"/>
                      <a:hlinkClick r:id="rId14"/>
                    </a:rPr>
                    <a:t>http://www.nphp.gov.au/workprog/sigpa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Healthy youth (Centre for disease control and prevention (US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cdc.gov/HealthyYouth/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America On The Move promotion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americaonthemove.org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Papers from the International Journal of Behavioural Nutrition and Physical Activity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ijbnpa.org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Department of health and aging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.gov.au/internet/wcms/publishing.nsf/content/home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uilding a healthy, active Australia (Australian government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healthyactive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National Public Health Partnership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nphp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Be Active promotion (Government of South Australia)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beactive.com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ffffff"/>
                    </a:buClr>
                    <a:buFont typeface="Geneva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Sport and Recreation Australia: </a:t>
                  </a:r>
                  <a:r>
                    <a:rPr b="0" lang="en-AU" sz="900" spc="-1" strike="noStrike">
                      <a:solidFill>
                        <a:srgbClr val="235b99"/>
                      </a:solidFill>
                      <a:latin typeface="Verdana"/>
                      <a:ea typeface="Times New Roman"/>
                    </a:rPr>
                    <a:t>http://www.sport.vic.gov.au</a:t>
                  </a:r>
                  <a:r>
                    <a:rPr b="0" lang="en-AU" sz="900" spc="-1" strike="noStrike">
                      <a:solidFill>
                        <a:srgbClr val="ffffff"/>
                      </a:solidFill>
                      <a:latin typeface="Geneva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10"/>
              <p:cNvSpPr/>
              <p:nvPr/>
            </p:nvSpPr>
            <p:spPr>
              <a:xfrm>
                <a:off x="0" y="1562040"/>
                <a:ext cx="9144000" cy="4533120"/>
              </a:xfrm>
              <a:prstGeom prst="rect">
                <a:avLst/>
              </a:prstGeom>
              <a:solidFill>
                <a:srgbClr val="b7be19"/>
              </a:solidFill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Rectangle 11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1295280"/>
            <a:ext cx="9144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ve body and mind tests from the BBC UK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5"/>
              </a:rPr>
              <a:t>http://www.bbc.co.uk/science/humanbod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Human anatom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6"/>
              </a:rPr>
              <a:t>http://www.innerbody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about the body and anatomy – Virtual Bod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7"/>
              </a:rPr>
              <a:t>http://www.ehc.com/vbody.as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rticle – Oxygen Deficit: A Measure of Anaerobic Capacity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8"/>
              </a:rPr>
              <a:t>http://www.faccioni.com/Reviews/oxygendeficit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on the transport of oxygen in the blood, from the Australasian Society of Cardio-Vascular Perfusionists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19"/>
              </a:rPr>
              <a:t>http://www.perfusion.com.au/CCP/Physiology/Oxygen and carbon dioxide transport.ht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Nicholas Institute of Sports Medicine and Athletic Trauma – A primer on maximum oxygen consumpt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0"/>
              </a:rPr>
              <a:t>http://www.nismat.org/physcor/max_o2.htm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ustralian Sports Commission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1"/>
              </a:rPr>
              <a:t>http://www.ausport.gov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ports Coach UK: </a:t>
            </a:r>
            <a:r>
              <a:rPr b="0" lang="en-AU" sz="1800" spc="-1" strike="noStrike" u="sng">
                <a:solidFill>
                  <a:srgbClr val="969696"/>
                </a:solidFill>
                <a:uFillTx/>
                <a:latin typeface="Arial"/>
                <a:hlinkClick r:id="rId22"/>
              </a:rPr>
              <a:t>http://www.brianmac.demon.co.u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>
            <a:hlinkClick r:id="rId23" action="ppaction://hlinksldjump"/>
          </p:cNvPr>
          <p:cNvSpPr/>
          <p:nvPr/>
        </p:nvSpPr>
        <p:spPr>
          <a:xfrm>
            <a:off x="8077320" y="609588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4" h="21600">
                <a:moveTo>
                  <a:pt x="15417" y="3837"/>
                </a:moveTo>
                <a:lnTo>
                  <a:pt x="17993" y="6448"/>
                </a:ln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lnTo>
                  <a:pt x="22380" y="10800"/>
                </a:lnTo>
                <a:lnTo>
                  <a:pt x="20726" y="10800"/>
                </a:lnTo>
                <a:lnTo>
                  <a:pt x="20726" y="17989"/>
                </a:lnTo>
                <a:lnTo>
                  <a:pt x="10108" y="17989"/>
                </a:lnTo>
                <a:lnTo>
                  <a:pt x="10108" y="10800"/>
                </a:lnTo>
                <a:lnTo>
                  <a:pt x="8454" y="10800"/>
                </a:lnTo>
                <a:close/>
              </a:path>
              <a:path fill="darkenLess" w="30834" h="21600">
                <a:moveTo>
                  <a:pt x="17993" y="6448"/>
                </a:moveTo>
                <a:lnTo>
                  <a:pt x="17993" y="4707"/>
                </a:lnTo>
                <a:lnTo>
                  <a:pt x="19769" y="4707"/>
                </a:lnTo>
                <a:lnTo>
                  <a:pt x="19769" y="8224"/>
                </a:lnTo>
                <a:close/>
              </a:path>
              <a:path fill="darkenLess" w="30834" h="21600">
                <a:moveTo>
                  <a:pt x="14495" y="14299"/>
                </a:moveTo>
                <a:lnTo>
                  <a:pt x="16340" y="14299"/>
                </a:lnTo>
                <a:lnTo>
                  <a:pt x="16340" y="17989"/>
                </a:lnTo>
                <a:lnTo>
                  <a:pt x="20726" y="17989"/>
                </a:lnTo>
                <a:lnTo>
                  <a:pt x="20726" y="10800"/>
                </a:lnTo>
                <a:lnTo>
                  <a:pt x="10108" y="10800"/>
                </a:lnTo>
                <a:lnTo>
                  <a:pt x="10108" y="17989"/>
                </a:lnTo>
                <a:lnTo>
                  <a:pt x="14495" y="17989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Circula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heart"/>
          <p:cNvPicPr/>
          <p:nvPr/>
        </p:nvPicPr>
        <p:blipFill>
          <a:blip r:embed="rId1"/>
          <a:stretch/>
        </p:blipFill>
        <p:spPr>
          <a:xfrm>
            <a:off x="228600" y="1676520"/>
            <a:ext cx="2971800" cy="4190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body_circulation"/>
          <p:cNvPicPr/>
          <p:nvPr/>
        </p:nvPicPr>
        <p:blipFill>
          <a:blip r:embed="rId2"/>
          <a:stretch/>
        </p:blipFill>
        <p:spPr>
          <a:xfrm>
            <a:off x="6019920" y="1752480"/>
            <a:ext cx="2895480" cy="421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arteries"/>
          <p:cNvPicPr/>
          <p:nvPr/>
        </p:nvPicPr>
        <p:blipFill>
          <a:blip r:embed="rId3"/>
          <a:stretch/>
        </p:blipFill>
        <p:spPr>
          <a:xfrm>
            <a:off x="3429000" y="1676520"/>
            <a:ext cx="2438280" cy="2479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2595600" y="2189160"/>
            <a:ext cx="7040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4"/>
          <a:stretch/>
        </p:blipFill>
        <p:spPr>
          <a:xfrm>
            <a:off x="3505320" y="4267080"/>
            <a:ext cx="2233440" cy="1752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Body Systems - Muscu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muscular"/>
          <p:cNvPicPr/>
          <p:nvPr/>
        </p:nvPicPr>
        <p:blipFill>
          <a:blip r:embed="rId1"/>
          <a:stretch/>
        </p:blipFill>
        <p:spPr>
          <a:xfrm>
            <a:off x="228600" y="1676520"/>
            <a:ext cx="601992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389400" y="2052720"/>
            <a:ext cx="702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SE2CD_0402"/>
          <p:cNvPicPr/>
          <p:nvPr/>
        </p:nvPicPr>
        <p:blipFill>
          <a:blip r:embed="rId2"/>
          <a:stretch/>
        </p:blipFill>
        <p:spPr>
          <a:xfrm>
            <a:off x="6383160" y="1676520"/>
            <a:ext cx="23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Muscle Structur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9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42900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arcomere"/>
          <p:cNvPicPr/>
          <p:nvPr/>
        </p:nvPicPr>
        <p:blipFill>
          <a:blip r:embed="rId1"/>
          <a:stretch/>
        </p:blipFill>
        <p:spPr>
          <a:xfrm>
            <a:off x="539640" y="1197000"/>
            <a:ext cx="3810240" cy="3505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309096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085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8001000" cy="146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39243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187440"/>
            <a:ext cx="791064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808080"/>
                </a:solidFill>
                <a:latin typeface="Arial"/>
              </a:rPr>
              <a:t>Oxygen Upta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Uptake, Oxygen Deficit and Oxygen De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livery of Oxygen to the Working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19664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spiratory system is responsible for the extraction of oxygen from the atmosphere. This process is called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ventilatio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– Exchange of gases based on concentration levels (High to low). Occurs at a cellular level (In the lungs and in the muscle 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ardiac output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(Heart rate x stroke volume) - The heart pumps out oxygenated blood to the vascular syste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xygen combines with haemoglobin i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Myoglobin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, in the muscle attracts the oxyg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rom the blood and draws it into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Waste produces of aerobic metabolism 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moved from the muscle cell via diffu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AU" sz="2000" spc="-1" strike="noStrike">
                <a:solidFill>
                  <a:srgbClr val="ff3300"/>
                </a:solidFill>
                <a:latin typeface="Arial"/>
              </a:rPr>
              <a:t>fig 5.2 p.1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360520" y="1932120"/>
            <a:ext cx="442296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RBC2"/>
          <p:cNvPicPr/>
          <p:nvPr/>
        </p:nvPicPr>
        <p:blipFill>
          <a:blip r:embed="rId1"/>
          <a:stretch/>
        </p:blipFill>
        <p:spPr>
          <a:xfrm>
            <a:off x="7236000" y="4508640"/>
            <a:ext cx="1552320" cy="170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Oxygen Up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imiting factors to oxygen uptak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1" action="ppaction://hlinksldjump"/>
              </a:rPr>
              <a:t>Respiratory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ability to take 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2" action="ppaction://hlinksldjump"/>
              </a:rPr>
              <a:t>Cardiovascular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ability to transport and deliver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9696"/>
                </a:solidFill>
                <a:uFillTx/>
                <a:latin typeface="Arial"/>
                <a:hlinkClick r:id="rId3" action="ppaction://hlinksldjump"/>
              </a:rPr>
              <a:t>Muscular system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– Utilisation of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ype of exercise performed, genetic inheritance, lifestyle, age and g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CE Physical Education - 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MaxOxyPop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0:17:34Z</dcterms:created>
  <dc:creator>DE&amp;T User</dc:creator>
  <dc:description/>
  <dc:language>en-US</dc:language>
  <cp:lastModifiedBy>Lyn Clarkson</cp:lastModifiedBy>
  <dcterms:modified xsi:type="dcterms:W3CDTF">2008-05-16T04:44:12Z</dcterms:modified>
  <cp:revision>173</cp:revision>
  <dc:subject/>
  <dc:title>Unit 3</dc:title>
</cp:coreProperties>
</file>